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18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0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6.jpeg" ContentType="image/jpeg"/>
  <Override PartName="/ppt/media/image8.png" ContentType="image/png"/>
  <Override PartName="/ppt/media/image14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226DA-6F5C-4E8B-98E4-7B95AEB29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43D44-E879-44E0-AD24-70547AA47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91FA36-9944-4499-B3F6-795102A31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A28A74-947B-4F99-B0A4-D174640DA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EBC622-9957-408C-9A79-12BEE11C0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1D8093-A64E-4D6A-8FBD-E2B0ABCE0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48D138-9CAC-43D4-918F-6B9DEF444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3B43FD-D88C-437D-A9EE-14D0EEE4A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AA4BAC-9858-4BC3-803D-2D6D0D6AE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CC4FEB-C521-4624-8DAF-DADBC80D2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6C0F1A-F775-4EC0-8E32-4E3B5A942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EF59394-96D7-49E5-B4E3-CCD1EE690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68D21-8A94-4DB0-94EF-0549B2C7C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C67FFA7-B298-439B-AA19-051EC3426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B4F1852-2BD4-4AD9-9658-0A66BCB48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2196216-3634-4358-9A9F-14CD2838D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AB0CC2D-3395-466C-98EA-0A4A6F3DA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A4F4081-F89A-4337-A7C6-FB6883DB8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79AACA6-1D15-4E03-97CC-E772F7384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9313695-911B-4DFE-B99F-50AD40DC9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BD75093-89A5-4006-A4A1-814AEFDAE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58175DC-16F6-477B-8597-BADE31E1F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9F695FC-CF93-4304-8DA6-E297F58F6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6F98C-3CC4-4768-B039-BC7B53850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67058ED-0D07-426E-8867-72264EA77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143413C-3A6C-4D56-BB48-632C0A9B6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23A07EE-B8A8-4566-809D-3D215D673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9AF5BA6-1A44-4258-BDAD-820D14D19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F5FD774-D637-4FE0-B297-1A6E1591C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C4DBFAB-3A24-44B4-922B-2C40E3498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23B6B19-A9AE-4AC3-995D-5F81FDC34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959511D-B75A-458B-8D51-CA0A12DCE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5DA48FC-0683-41BD-B111-FE136E350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3D3210E-7E0E-4300-B0E5-7CCDA7ECB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AF72C-A433-4FFE-A665-31800C4CF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48296EC-1A5A-4ADE-81B9-6730648D5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A0CCE64-B07E-4C0E-8B7A-18E513143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EE4AD84-9EA0-4D11-AE98-F351D86E5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7293275-B907-4DAF-BEA7-083EEF192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54A32B6-3EDE-455D-80AD-0130EA799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A237533-E952-414A-8FCD-B29C3A3A1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9C8CE5D-FFAB-4B5E-B45B-0993A5302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EB7C79E-3D47-46A0-A45E-D60C1B057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2A3CB1F-9367-4A56-8D0B-C47352100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E600549-832F-4B8C-A9B6-B6E33D76F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26A17-E5B2-4024-ADE9-B8AEEA913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756DE5B-DF3C-4750-9BBC-FDA16DBD1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72E3A84-61AF-418D-87AE-504585CF1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9A23FE3-E906-4EB0-83BC-F9F321E6A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954658D-C0CA-4348-AAA0-9F67413F1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7B4FCE2-0605-46F8-B6E2-189567D8C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77A6D-5C5D-4765-999F-EE5689D9A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AFD77-3F73-424A-9611-320264078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D9316-E09E-4460-9F0A-90F575BEC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39B2A-9BE9-4E13-8E5D-0058BCD40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DE4E8-E6EE-41A2-94C3-9C49ABB68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BBA10-CE86-470D-B6C3-8CCD01194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2BA0B-CBF1-429E-9827-2C2516118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FE02F-D877-425E-A427-9061F7472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9C2AB-DB44-4EE2-9A43-88A15A0F1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E419F-8DCC-466C-A6CE-ED3B78D94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CFC8B-E1C7-43BC-97B6-1F0111FCA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15C478-D62E-4B9B-8539-527B183F5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4A7C9C-F545-4E2A-A627-18A6A0039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2193BF-1D20-48E4-ACDE-3341313AF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321E4A-C451-4592-8A04-B906FF2FF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749B86-6703-44C4-B223-7D1290CBB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B19C0-0B02-44D5-A543-437BFD6CE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73D722-FFE5-47E8-AADA-4748101FF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5E71C3-3934-4773-A975-DD0E4E378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5C4790-6990-42F8-B2BD-0599473F7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AAEDE4-DC00-4EFC-9D6A-F93A7FB34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D713D5-E790-48FA-BCB9-61E99FED6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83BBB1-5BD3-4B77-8B19-67393071E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F0E811-323C-4ECD-822C-8680C0EA9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C1840B-98BC-4596-9F65-BDFF01DBB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E2A54B-B921-4858-AB98-22B172C56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175863-BC5E-4760-8BDB-CD21EA6A9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2E34D-F334-46DD-BA75-FD92942CD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69C44C-D87D-4772-9153-9C82FB62B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A50BC8-3780-4220-951E-4906A0DD5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2667CE-8D23-438E-8C5A-109137720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41C6A3-D5CD-4615-82CC-2E3B22D45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95D99B-54B4-4068-8C38-35FDF6523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5FA0B6-7605-4319-8434-2CCDF3BBF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5A8739-9FEB-4A71-83F0-C4BCF50F5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DBE25D-DBE1-4F96-9868-F44802636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47B44B-B94F-4F2D-BE7B-94A0F79B1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A903F7-334F-4270-B882-4C8D8E3D1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FAA77-5C2D-4F20-A4F8-B3FC3518D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A0B40A-9332-4E00-97D5-FC0E5E1E7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E384D1-0BB0-49CE-B86A-EC12716C9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FFD408-1B6E-432B-8407-1E6AD8537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F48CEE-4389-47D4-BA1C-77286A028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9B60A1-AEBA-479D-BB0A-CC4C41590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FBE6B9-A4E4-4A9E-B9B7-26A9C76D0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FFBC4A-69FE-4246-9148-74985AEFE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D1A7C7-84DF-4CF1-8CE7-7EE960E98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7BBD4B-5F40-448D-B497-1CAB9B67E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0875CF-50A0-419A-B0FE-958373055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48D1F-B5DA-4756-BE8F-4C8122C5E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7F71B0-F336-4863-B303-45E0DAF62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4896B9-1461-4B04-8C6B-A11FD9C46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41E429-0909-4146-B315-6A186E770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7C3F6B-A3AA-4794-B628-FCDACA027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0DA7E2-02BB-44E1-AE9E-343CE2F60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07CD90-F830-4C51-9A03-9CAE436C2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06DCAE-B09D-4BE5-B0A3-2177AA6BF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EE6B98-4A67-4FFC-9170-D84DAF95D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357A2B-32E9-439C-9AAB-C6C2A2A4A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BFC145-9964-4A51-BC3D-95CB3B671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EEA86-A440-408B-8705-EC05567FE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C5A637-DD22-4CFD-BCE0-2BB794582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A18856-961A-47B4-AD66-A414C2A19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277C9A-1888-499D-B3DC-C1CDB4530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BC3C25-2FE2-48F1-8C6D-9657B931F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7F411A-49E7-40F8-8D74-71BFA8242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63D96C-39F0-423F-A1B6-3D2ABD7E0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7AC5A2-4FB4-4403-9484-245BB9608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D8C70C-27DA-4EA7-AA55-FD2D04271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CAE835-492F-4319-A77F-FF9D60BE5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816322-066A-456F-BB37-41158271B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6FC05-6F69-4918-8A1D-CBA7610C2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B2697B-EED4-4339-AA7A-C3667C868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CC4E1A-CAE3-420B-BFD1-52B07AE71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F5BC5E-CC87-4553-AC9C-6C7CEFAA3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441AA7-FD28-493D-ABDB-292AD71C2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4BEAB3-18BA-44D4-BAD7-14F7FC951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1909840-507A-470B-BCD2-5CC0A3C58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2E191B6-A4E5-47A8-A676-1A6418AC2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E72A484-BBD3-4E66-AAA5-E38989E39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C5F008E-26A9-460F-BFD9-7DE452CD5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3093D8A-512D-422B-8700-49ACA14E1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A2C84-8982-40A1-9E3D-41C00450B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C1AEE6A-7B53-49D5-897C-B9B0E26D3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130518F-D104-443E-9AD0-D370DB1D9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CA6C58A-4B49-4E7B-92F9-7FF3FA93A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34A9289-AB01-47D4-8DC9-FB41D0761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9CE79F8-BA40-4418-A1CE-CB4B840F9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53272EF-129C-48F6-A7B2-64C1F37EC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3FDBDD9-CB53-4A3F-B4F4-538061711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02F311-7624-4D63-AB1E-CCE149339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87B557-5B2F-4BD2-B9B0-FA1CE6703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010443-B45F-4F5B-A915-2B0121207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98563-4698-4AF3-A79B-FB0FA5296E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Straight Connector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Straight Connector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 type="sldNum" idx="28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19FDE-28A2-46D0-B9BE-DBC9F01C9635}" type="slidenum">
              <a:rPr b="0" lang="en-US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 type="ftr" idx="29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 type="dt" idx="30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 type="dt" idx="3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 type="sldNum" idx="32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47775-B5A1-4926-8DC6-16CFCDC93159}" type="slidenum">
              <a:rPr b="0" lang="en-US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 type="ftr" idx="33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 type="dt" idx="3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 type="sldNum" idx="3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9EC60-EFEC-466C-A151-030756FC28F4}" type="slidenum">
              <a:rPr b="0" lang="en-US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 type="ftr" idx="3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A0D7D-7F99-4849-B267-3BDA5224F90B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13EBD-E1F6-494F-968D-CAE9437DD113}" type="slidenum">
              <a:rPr b="0" lang="en-US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Rounded Rectangle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Rectangle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Rectangle 14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Rectangle 15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BA550-A766-4E13-A63A-3718850684E7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2" name="Rounded Rectangle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173" name="Rounded Rectangle 10" descr=""/>
            <p:cNvPicPr/>
            <p:nvPr/>
          </p:nvPicPr>
          <p:blipFill>
            <a:blip r:embed="rId2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5" name="Rectangle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Rectangle 14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Rectangle 15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F4E09-1BCD-495F-AF46-50E68305813C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Rounded Rectangle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C4F22-0AB9-4728-8432-96F2849ECFEB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Rectangle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Rectangle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Rectangle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 type="dt" idx="19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 type="ftr" idx="20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 type="sldNum" idx="21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AD797-D237-4DC4-A4CC-4C46FF074E50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Straight Connector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Straight Connector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Oval 10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 type="dt" idx="2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 type="sldNum" idx="2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F54D7-8651-46AF-9E27-C1A5D180D35F}" type="slidenum">
              <a:rPr b="0" lang="en-US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 type="ftr" idx="24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Straight Connector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 type="dt" idx="25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 type="ftr" idx="2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 type="sldNum" idx="27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F113C-DC01-4531-8D90-9B9D196563D5}" type="slidenum">
              <a:rPr b="0" lang="en-US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spartacus.schoolnet.co.uk/GERribbentrop.htm" TargetMode="External"/><Relationship Id="rId2" Type="http://schemas.openxmlformats.org/officeDocument/2006/relationships/hyperlink" Target="http://www.jewishvirtuallibrary.org/" TargetMode="External"/><Relationship Id="rId3" Type="http://schemas.openxmlformats.org/officeDocument/2006/relationships/hyperlink" Target="http://www.encyclopedia.com/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1" name="Title 1" descr=""/>
          <p:cNvPicPr/>
          <p:nvPr/>
        </p:nvPicPr>
        <p:blipFill>
          <a:blip r:embed="rId1"/>
          <a:stretch/>
        </p:blipFill>
        <p:spPr>
          <a:xfrm>
            <a:off x="633240" y="1755720"/>
            <a:ext cx="7882200" cy="2041560"/>
          </a:xfrm>
          <a:prstGeom prst="rect">
            <a:avLst/>
          </a:prstGeom>
          <a:ln w="0">
            <a:noFill/>
          </a:ln>
        </p:spPr>
      </p:pic>
      <p:sp>
        <p:nvSpPr>
          <p:cNvPr id="522" name="PlaceHolder 1"/>
          <p:cNvSpPr>
            <a:spLocks noGrp="1"/>
          </p:cNvSpPr>
          <p:nvPr>
            <p:ph type="subTitle"/>
          </p:nvPr>
        </p:nvSpPr>
        <p:spPr>
          <a:xfrm>
            <a:off x="4267080" y="5181480"/>
            <a:ext cx="45720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araly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3" name="Picture 3" descr="Bundesarchiv_Bild_102-18083,_Joachim_von_Ribbentrop.jpg"/>
          <p:cNvPicPr/>
          <p:nvPr/>
        </p:nvPicPr>
        <p:blipFill>
          <a:blip r:embed="rId2"/>
          <a:stretch/>
        </p:blipFill>
        <p:spPr>
          <a:xfrm>
            <a:off x="1143000" y="3733920"/>
            <a:ext cx="1905120" cy="276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8119"/>
                </a:solidFill>
                <a:uFillTx/>
                <a:latin typeface="Calibri"/>
                <a:hlinkClick r:id="rId1"/>
              </a:rPr>
              <a:t>www.spartacus.schoolnet.co.uk/GERribbentrop.ht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8119"/>
                </a:solidFill>
                <a:uFillTx/>
                <a:latin typeface="Calibri"/>
                <a:hlinkClick r:id="rId2"/>
              </a:rPr>
              <a:t>www.jewishvirtuallibrary.or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19e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19e2f"/>
                </a:solidFill>
                <a:uFillTx/>
                <a:latin typeface="Calibri"/>
              </a:rPr>
              <a:t>gi.grolier.c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19e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19e2f"/>
                </a:solidFill>
                <a:uFillTx/>
                <a:latin typeface="Calibri"/>
              </a:rPr>
              <a:t>Ourcivilisation.c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8119"/>
                </a:solidFill>
                <a:uFillTx/>
                <a:latin typeface="Calibri"/>
                <a:hlinkClick r:id="rId3"/>
              </a:rPr>
              <a:t>www.encyclopedia.c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96464"/>
                </a:solidFill>
                <a:latin typeface="Franklin Gothic Book"/>
              </a:rPr>
              <a:t>Before Entering the Nazi Party</a:t>
            </a:r>
            <a:endParaRPr b="0" lang="en-US" sz="44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Ribbentrop was the son of a German Army officer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He was born in Germany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April 3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Perpetua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, 1893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He went to school in Switzerland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526" name="Picture 3" descr="germany_map.jpg"/>
          <p:cNvPicPr/>
          <p:nvPr/>
        </p:nvPicPr>
        <p:blipFill>
          <a:blip r:embed="rId1"/>
          <a:stretch/>
        </p:blipFill>
        <p:spPr>
          <a:xfrm>
            <a:off x="6324480" y="4241880"/>
            <a:ext cx="2144880" cy="23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Franklin Gothic Book"/>
              </a:rPr>
              <a:t>Before entering the Nazi Party Cont.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28" name=""/>
          <p:cNvSpPr txBox="1"/>
          <p:nvPr/>
        </p:nvSpPr>
        <p:spPr>
          <a:xfrm>
            <a:off x="457200" y="1599840"/>
            <a:ext cx="82296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Journalist in NYC and Boston.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Also, he fought in WWI on the Eastern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ront.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529" name="Picture 3" descr="large_WWI_7.jpg"/>
          <p:cNvPicPr/>
          <p:nvPr/>
        </p:nvPicPr>
        <p:blipFill>
          <a:blip r:embed="rId1"/>
          <a:stretch/>
        </p:blipFill>
        <p:spPr>
          <a:xfrm>
            <a:off x="2971800" y="3581280"/>
            <a:ext cx="3048120" cy="25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54a1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0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548000"/>
          </a:xfrm>
          <a:prstGeom prst="rect">
            <a:avLst/>
          </a:prstGeom>
          <a:ln w="0">
            <a:noFill/>
          </a:ln>
        </p:spPr>
      </p:pic>
      <p:sp>
        <p:nvSpPr>
          <p:cNvPr id="53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e became a member in 1932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e was the forgien policy exper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Later he became the Ambassador of Lond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2" name="Picture 3" descr="images.jpg"/>
          <p:cNvPicPr/>
          <p:nvPr/>
        </p:nvPicPr>
        <p:blipFill>
          <a:blip r:embed="rId2"/>
          <a:stretch/>
        </p:blipFill>
        <p:spPr>
          <a:xfrm>
            <a:off x="3886200" y="3733920"/>
            <a:ext cx="214308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Title 1" descr=""/>
          <p:cNvPicPr/>
          <p:nvPr/>
        </p:nvPicPr>
        <p:blipFill>
          <a:blip r:embed="rId2"/>
          <a:stretch/>
        </p:blipFill>
        <p:spPr>
          <a:xfrm>
            <a:off x="450720" y="182520"/>
            <a:ext cx="8242560" cy="1244520"/>
          </a:xfrm>
          <a:prstGeom prst="rect">
            <a:avLst/>
          </a:prstGeom>
          <a:ln w="0">
            <a:noFill/>
          </a:ln>
        </p:spPr>
      </p:pic>
      <p:sp>
        <p:nvSpPr>
          <p:cNvPr id="53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High Tower Text"/>
              </a:rPr>
              <a:t>He was influential in the formation of the Rome-Berlin Axis, and in the conclusion of the Russo-German nonaggression pact of August, and in planning the attack on Poland that set off World War II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 txBox="1"/>
          <p:nvPr/>
        </p:nvSpPr>
        <p:spPr>
          <a:xfrm>
            <a:off x="457200" y="1599840"/>
            <a:ext cx="44956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1d77f"/>
                </a:solidFill>
                <a:latin typeface="Lucida Bright"/>
              </a:rPr>
              <a:t>    “</a:t>
            </a:r>
            <a:r>
              <a:rPr b="0" lang="en-US" sz="2600" spc="-1" strike="noStrike">
                <a:solidFill>
                  <a:srgbClr val="f1d77f"/>
                </a:solidFill>
                <a:latin typeface="Lucida Bright"/>
              </a:rPr>
              <a:t>I assure you we are appalled by all these persecutions and atrocities. It is simply not typically German! Can you imagine that I could kill anyone?  Tell me honestly do any of us look like murderers?”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536" name="Picture 4" descr="images1.jpg"/>
          <p:cNvPicPr/>
          <p:nvPr/>
        </p:nvPicPr>
        <p:blipFill>
          <a:blip r:embed="rId1"/>
          <a:stretch/>
        </p:blipFill>
        <p:spPr>
          <a:xfrm>
            <a:off x="5257800" y="1419120"/>
            <a:ext cx="2133720" cy="3175200"/>
          </a:xfrm>
          <a:prstGeom prst="rect">
            <a:avLst/>
          </a:prstGeom>
          <a:ln w="0">
            <a:noFill/>
          </a:ln>
        </p:spPr>
      </p:pic>
      <p:pic>
        <p:nvPicPr>
          <p:cNvPr id="537" name="Picture 5" descr="images13234.jpg"/>
          <p:cNvPicPr/>
          <p:nvPr/>
        </p:nvPicPr>
        <p:blipFill>
          <a:blip r:embed="rId2"/>
          <a:stretch/>
        </p:blipFill>
        <p:spPr>
          <a:xfrm>
            <a:off x="6248520" y="3505320"/>
            <a:ext cx="22302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8" name="Title 1" descr=""/>
          <p:cNvPicPr/>
          <p:nvPr/>
        </p:nvPicPr>
        <p:blipFill>
          <a:blip r:embed="rId2"/>
          <a:stretch/>
        </p:blipFill>
        <p:spPr>
          <a:xfrm>
            <a:off x="438120" y="255600"/>
            <a:ext cx="8267760" cy="1182600"/>
          </a:xfrm>
          <a:prstGeom prst="rect">
            <a:avLst/>
          </a:prstGeom>
          <a:ln w="0">
            <a:noFill/>
          </a:ln>
        </p:spPr>
      </p:pic>
      <p:sp>
        <p:nvSpPr>
          <p:cNvPr id="5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2b4a7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b4a76"/>
                </a:solidFill>
                <a:latin typeface="Tempus Sans ITC"/>
              </a:rPr>
              <a:t>He was dismissed be Admiral Karl Doenitz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2b4a7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b4a76"/>
                </a:solidFill>
                <a:latin typeface="Tempus Sans ITC"/>
              </a:rPr>
              <a:t>Then he was captured by British forces and convicted of War Crimes. Eventhough, Ribbentrop denied knowledge of German concentration camps and racial extermination polici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2b4a7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78bb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0" name="Title 1" descr=""/>
          <p:cNvPicPr/>
          <p:nvPr/>
        </p:nvPicPr>
        <p:blipFill>
          <a:blip r:embed="rId1"/>
          <a:stretch/>
        </p:blipFill>
        <p:spPr>
          <a:xfrm>
            <a:off x="396720" y="237960"/>
            <a:ext cx="8345520" cy="1256040"/>
          </a:xfrm>
          <a:prstGeom prst="rect">
            <a:avLst/>
          </a:prstGeom>
          <a:ln w="0">
            <a:noFill/>
          </a:ln>
        </p:spPr>
      </p:pic>
      <p:sp>
        <p:nvSpPr>
          <p:cNvPr id="5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538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5385a"/>
                </a:solidFill>
                <a:latin typeface="Arial Black"/>
              </a:rPr>
              <a:t>He was hanged in Nuremberg on October 16, 1948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2" name="Picture 3" descr="imageseu.jpg"/>
          <p:cNvPicPr/>
          <p:nvPr/>
        </p:nvPicPr>
        <p:blipFill>
          <a:blip r:embed="rId2"/>
          <a:stretch/>
        </p:blipFill>
        <p:spPr>
          <a:xfrm>
            <a:off x="1676520" y="3276720"/>
            <a:ext cx="2201760" cy="283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d101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3" name="Title 1" descr=""/>
          <p:cNvPicPr/>
          <p:nvPr/>
        </p:nvPicPr>
        <p:blipFill>
          <a:blip r:embed="rId1"/>
          <a:stretch/>
        </p:blipFill>
        <p:spPr>
          <a:xfrm>
            <a:off x="1573200" y="4552920"/>
            <a:ext cx="5864400" cy="817560"/>
          </a:xfrm>
          <a:prstGeom prst="rect">
            <a:avLst/>
          </a:prstGeom>
          <a:ln w="0">
            <a:noFill/>
          </a:ln>
        </p:spPr>
      </p:pic>
      <p:pic>
        <p:nvPicPr>
          <p:cNvPr id="544" name="Picture 8" descr="FS1JINCAD79YYPCAMGTWQ3CATHPQONCAHO2NS9CAOSQ3WZCA32BPC8CA5DL8TQCABF2TGACARRGLQICAUHUINTCAMR5FABCA67YJBTCAHQZNVVCA9QRZHPCAVGG52JCAOOO1ZVCAZI3L66CAAEBEC1CAWLXD49.jpg"/>
          <p:cNvPicPr/>
          <p:nvPr/>
        </p:nvPicPr>
        <p:blipFill>
          <a:blip r:embed="rId2"/>
          <a:stretch/>
        </p:blipFill>
        <p:spPr>
          <a:xfrm>
            <a:off x="2438280" y="457200"/>
            <a:ext cx="381024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0T17:19:21Z</dcterms:created>
  <dc:creator> </dc:creator>
  <dc:description/>
  <dc:language>en-US</dc:language>
  <cp:lastModifiedBy> </cp:lastModifiedBy>
  <dcterms:modified xsi:type="dcterms:W3CDTF">2009-11-24T17:01:12Z</dcterms:modified>
  <cp:revision>14</cp:revision>
  <dc:subject/>
  <dc:title>Slide 1</dc:title>
</cp:coreProperties>
</file>